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FE31-9A86-49A3-92C7-7C5036A773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DE16-7DC2-43E5-AE7F-45030542D4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681876-C237-4319-AB47-68E00C83DC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7262-C65C-41AA-9CFC-0FBB403679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C7F5-4D3E-48E2-B84A-DF693FDF10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4CBC-52B6-4C20-AC84-07B2459F2E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0AF8-A5B0-4E1F-9061-12F97614CF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B1D9-D378-4298-8107-921BB4AA6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A07-E856-4182-AD84-218F2260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4DD-DC23-4FDB-893E-3C442BBD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0B7-4B58-4FF3-B7E3-BD10D143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9FE-0590-4243-B7CE-1998AB91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01C-E3FB-44CB-A536-CDCC7926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FC4-FB0E-4432-84B2-858A9581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09C-D819-4931-AAE9-43138EBA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D9B-444D-44AC-B8E1-DE6405F7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904-A8B7-476D-BCEC-B926899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9DF-C82B-48F5-A13E-732C5F12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CBC-77DC-456E-9EF2-3F9A5F75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0F9-B8B4-4500-8903-9800D7AF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0593-ADD5-4517-A636-94A4DA2547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9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5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5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5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6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6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6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7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7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7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19 апреля 2019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1857240"/>
            <a:ext cx="8372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344920"/>
            <a:ext cx="8015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765000"/>
          <a:ext cx="8643960" cy="530100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863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7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9 г. по сравнению с 2018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941400"/>
                <a:gridCol w="1251000"/>
                <a:gridCol w="1249200"/>
                <a:gridCol w="1251000"/>
                <a:gridCol w="1251000"/>
              </a:tblGrid>
              <a:tr h="352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5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9-12-10T04:45:47Z</dcterms:modified>
  <cp:revision>457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